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0"/>
            <a:ext cx="1092204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4840"/>
            <a:ext cx="10922040" cy="450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41480" y="2349000"/>
            <a:ext cx="495288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1120" y="-360"/>
            <a:ext cx="1092204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41120" y="2768760"/>
            <a:ext cx="109220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6364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30824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7524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3108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106236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93280" indent="-554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924560" indent="-554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35584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355840" indent="-55440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355840" indent="-55440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41480" y="2349000"/>
            <a:ext cx="495288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9920" y="2349000"/>
            <a:ext cx="49532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2082960"/>
            <a:ext cx="10922040" cy="5892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41120" y="8292600"/>
            <a:ext cx="109220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414360"/>
            <a:ext cx="10922040" cy="186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6364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30824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7524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19708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74268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12500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5069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188928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188928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188928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25400" y="5866920"/>
            <a:ext cx="97534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br>
              <a:rPr sz="4200"/>
            </a:b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&amp; FRANK LLOYD WRIGHT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0"/>
            <a:ext cx="3009960" cy="4254480"/>
            <a:chOff x="0" y="0"/>
            <a:chExt cx="3009960" cy="4254480"/>
          </a:xfrm>
        </p:grpSpPr>
        <p:pic>
          <p:nvPicPr>
            <p:cNvPr id="498" name="" descr=""/>
            <p:cNvPicPr/>
            <p:nvPr/>
          </p:nvPicPr>
          <p:blipFill>
            <a:blip r:embed="rId2"/>
            <a:srcRect l="8471" t="0" r="5147" b="0"/>
            <a:stretch/>
          </p:blipFill>
          <p:spPr>
            <a:xfrm>
              <a:off x="216000" y="227160"/>
              <a:ext cx="25779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009960" cy="425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"/>
          <p:cNvGrpSpPr/>
          <p:nvPr/>
        </p:nvGrpSpPr>
        <p:grpSpPr>
          <a:xfrm>
            <a:off x="0" y="12600"/>
            <a:ext cx="11809440" cy="8674200"/>
            <a:chOff x="0" y="12600"/>
            <a:chExt cx="11809440" cy="8674200"/>
          </a:xfrm>
        </p:grpSpPr>
        <p:pic>
          <p:nvPicPr>
            <p:cNvPr id="501" name="" descr=""/>
            <p:cNvPicPr/>
            <p:nvPr/>
          </p:nvPicPr>
          <p:blipFill>
            <a:blip r:embed="rId4"/>
            <a:stretch/>
          </p:blipFill>
          <p:spPr>
            <a:xfrm>
              <a:off x="0" y="12600"/>
              <a:ext cx="339552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10056960" y="8432640"/>
              <a:ext cx="1752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  <a:ea typeface="Gill Sans Light"/>
                </a:rPr>
                <a:t>presented by</a:t>
              </a:r>
              <a:endParaRPr b="0" lang="en-US" sz="18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0" y="0"/>
            <a:ext cx="2921040" cy="4267080"/>
            <a:chOff x="0" y="0"/>
            <a:chExt cx="2921040" cy="4267080"/>
          </a:xfrm>
        </p:grpSpPr>
        <p:pic>
          <p:nvPicPr>
            <p:cNvPr id="504" name="" descr=""/>
            <p:cNvPicPr/>
            <p:nvPr/>
          </p:nvPicPr>
          <p:blipFill>
            <a:blip r:embed="rId5"/>
            <a:stretch/>
          </p:blipFill>
          <p:spPr>
            <a:xfrm>
              <a:off x="216000" y="216000"/>
              <a:ext cx="248904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92104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 rot="10800000">
            <a:off x="2425320" y="8039160"/>
            <a:ext cx="8140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767"/>
                </a:solidFill>
                <a:latin typeface="Zapfino"/>
                <a:ea typeface="Zapfino"/>
              </a:rPr>
              <a:t>The Greatest Architects of America</a:t>
            </a:r>
            <a:endParaRPr b="0" lang="en-US" sz="14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2921040" cy="4267080"/>
            <a:chOff x="0" y="0"/>
            <a:chExt cx="2921040" cy="426708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216000" y="216000"/>
              <a:ext cx="248904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92104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03240" y="7137000"/>
            <a:ext cx="9753840" cy="15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br>
              <a:rPr sz="4200"/>
            </a:b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1856 - 1924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0"/>
            <a:ext cx="2197080" cy="3048120"/>
            <a:chOff x="0" y="0"/>
            <a:chExt cx="2197080" cy="3048120"/>
          </a:xfrm>
        </p:grpSpPr>
        <p:pic>
          <p:nvPicPr>
            <p:cNvPr id="512" name="" descr=""/>
            <p:cNvPicPr/>
            <p:nvPr/>
          </p:nvPicPr>
          <p:blipFill>
            <a:blip r:embed="rId4"/>
            <a:stretch/>
          </p:blipFill>
          <p:spPr>
            <a:xfrm>
              <a:off x="216000" y="216000"/>
              <a:ext cx="1765080" cy="26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19708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"/>
          <p:cNvGrpSpPr/>
          <p:nvPr/>
        </p:nvGrpSpPr>
        <p:grpSpPr>
          <a:xfrm>
            <a:off x="0" y="0"/>
            <a:ext cx="2641680" cy="3073320"/>
            <a:chOff x="0" y="0"/>
            <a:chExt cx="2641680" cy="3073320"/>
          </a:xfrm>
        </p:grpSpPr>
        <p:pic>
          <p:nvPicPr>
            <p:cNvPr id="515" name="" descr=""/>
            <p:cNvPicPr/>
            <p:nvPr/>
          </p:nvPicPr>
          <p:blipFill>
            <a:blip r:embed="rId6"/>
            <a:stretch/>
          </p:blipFill>
          <p:spPr>
            <a:xfrm>
              <a:off x="216000" y="216000"/>
              <a:ext cx="2198520" cy="26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2641680" cy="3073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25400" y="-360"/>
            <a:ext cx="97534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18" name=""/>
          <p:cNvSpPr/>
          <p:nvPr/>
        </p:nvSpPr>
        <p:spPr>
          <a:xfrm flipH="1" rot="10800000">
            <a:off x="2850120" y="169236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19" name=""/>
          <p:cNvSpPr/>
          <p:nvPr/>
        </p:nvSpPr>
        <p:spPr>
          <a:xfrm>
            <a:off x="1035000" y="2158920"/>
            <a:ext cx="106171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America’s most influential architec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ather of modernism”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reator of the modern skyscrape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mentor of Frank Lloyd Wrigh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inspiration to the Prairie School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3505320" cy="4978440"/>
            <a:chOff x="0" y="0"/>
            <a:chExt cx="3505320" cy="497844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216000" y="216000"/>
              <a:ext cx="3073320" cy="45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505320" cy="497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25400" y="-360"/>
            <a:ext cx="97534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EARLY LIFE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24" name=""/>
          <p:cNvSpPr/>
          <p:nvPr/>
        </p:nvSpPr>
        <p:spPr>
          <a:xfrm flipH="1" rot="10800000">
            <a:off x="2850120" y="169236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5" name=""/>
          <p:cNvSpPr/>
          <p:nvPr/>
        </p:nvSpPr>
        <p:spPr>
          <a:xfrm>
            <a:off x="1035000" y="2158920"/>
            <a:ext cx="10617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born to Irish and Swedish immigrants in 1856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grew up at grandparent’s farm learning things about nature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pent a lot of time around Bosto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exploring and looking at building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tudied architecture at Massachusetts Institute of Technology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entered at the age of 16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he left MIT in a year to live in Pennsylvania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then he went to Chicago, where he worked with the </a:t>
            </a: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ather of the skyscraper</a:t>
            </a: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, William Le Baro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25400" y="-360"/>
            <a:ext cx="97534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...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27" name=""/>
          <p:cNvSpPr/>
          <p:nvPr/>
        </p:nvSpPr>
        <p:spPr>
          <a:xfrm flipH="1" rot="10800000">
            <a:off x="2850120" y="169236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8" name=""/>
          <p:cNvSpPr/>
          <p:nvPr/>
        </p:nvSpPr>
        <p:spPr>
          <a:xfrm>
            <a:off x="1035000" y="2158920"/>
            <a:ext cx="1061712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ent to Paris in 1874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tudied at Ecole des Beaux-Art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returned to Chicago in 1875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got a job as a draftsman in the office of Joseph S. Johnson &amp; John Edelma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left Johnson in 1879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orked in the office of Dankmar Adle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the firm of Adler &amp; Sullivan designed over 180 buildings during its existence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25400" y="-360"/>
            <a:ext cx="97534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...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30" name=""/>
          <p:cNvSpPr/>
          <p:nvPr/>
        </p:nvSpPr>
        <p:spPr>
          <a:xfrm flipH="1" rot="10800000">
            <a:off x="2850120" y="169236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1" name=""/>
          <p:cNvSpPr/>
          <p:nvPr/>
        </p:nvSpPr>
        <p:spPr>
          <a:xfrm>
            <a:off x="1035000" y="2158920"/>
            <a:ext cx="10617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rank Lloyd Wright joined the firm in 1887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0" y="0"/>
            <a:ext cx="1434960" cy="1968480"/>
            <a:chOff x="0" y="0"/>
            <a:chExt cx="1434960" cy="1968480"/>
          </a:xfrm>
        </p:grpSpPr>
        <p:pic>
          <p:nvPicPr>
            <p:cNvPr id="533" name="" descr=""/>
            <p:cNvPicPr/>
            <p:nvPr/>
          </p:nvPicPr>
          <p:blipFill>
            <a:blip r:embed="rId2"/>
            <a:srcRect l="8471" t="0" r="5147" b="0"/>
            <a:stretch/>
          </p:blipFill>
          <p:spPr>
            <a:xfrm>
              <a:off x="152280" y="157320"/>
              <a:ext cx="113040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34960" cy="19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"/>
          <p:cNvSpPr/>
          <p:nvPr/>
        </p:nvSpPr>
        <p:spPr>
          <a:xfrm>
            <a:off x="1035000" y="2679840"/>
            <a:ext cx="106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ullivan became Wright’s mento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25400" y="-360"/>
            <a:ext cx="97534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Contribution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37" name=""/>
          <p:cNvSpPr/>
          <p:nvPr/>
        </p:nvSpPr>
        <p:spPr>
          <a:xfrm flipH="1" rot="10800000">
            <a:off x="2850120" y="169236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8" name=""/>
          <p:cNvSpPr/>
          <p:nvPr/>
        </p:nvSpPr>
        <p:spPr>
          <a:xfrm>
            <a:off x="1035000" y="2158920"/>
            <a:ext cx="10617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83000"/>
              </a:lnSpc>
              <a:buClr>
                <a:srgbClr val="48433e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433e"/>
                </a:solidFill>
                <a:latin typeface="Gill Sans Light"/>
                <a:ea typeface="Gill Sans Light"/>
              </a:rPr>
              <a:t>development of the high-rise building, skyscraper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83000"/>
              </a:lnSpc>
              <a:buClr>
                <a:srgbClr val="48433e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433e"/>
                </a:solidFill>
                <a:latin typeface="Gill Sans Light"/>
                <a:ea typeface="Gill Sans Light"/>
              </a:rPr>
              <a:t>great mentor of Frank Lloyd Wrigh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0"/>
            <a:ext cx="3911760" cy="4254480"/>
            <a:chOff x="0" y="0"/>
            <a:chExt cx="3911760" cy="4254480"/>
          </a:xfrm>
        </p:grpSpPr>
        <p:pic>
          <p:nvPicPr>
            <p:cNvPr id="54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16000" y="216000"/>
              <a:ext cx="3470040" cy="38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911760" cy="425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0" y="0"/>
            <a:ext cx="3619440" cy="2933640"/>
            <a:chOff x="0" y="0"/>
            <a:chExt cx="3619440" cy="2933640"/>
          </a:xfrm>
        </p:grpSpPr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214200" y="216000"/>
              <a:ext cx="3186360" cy="25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619440" cy="29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0" y="0"/>
            <a:ext cx="2819520" cy="3670200"/>
            <a:chOff x="0" y="0"/>
            <a:chExt cx="2819520" cy="367020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16000" y="216000"/>
              <a:ext cx="2376360" cy="32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2819520" cy="367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"/>
          <p:cNvGrpSpPr/>
          <p:nvPr/>
        </p:nvGrpSpPr>
        <p:grpSpPr>
          <a:xfrm>
            <a:off x="0" y="0"/>
            <a:ext cx="2997360" cy="3670200"/>
            <a:chOff x="0" y="0"/>
            <a:chExt cx="2997360" cy="3670200"/>
          </a:xfrm>
        </p:grpSpPr>
        <p:pic>
          <p:nvPicPr>
            <p:cNvPr id="549" name="" descr=""/>
            <p:cNvPicPr/>
            <p:nvPr/>
          </p:nvPicPr>
          <p:blipFill>
            <a:blip r:embed="rId8"/>
            <a:stretch/>
          </p:blipFill>
          <p:spPr>
            <a:xfrm>
              <a:off x="216000" y="214200"/>
              <a:ext cx="2565360" cy="32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2997360" cy="367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"/>
          <p:cNvGrpSpPr/>
          <p:nvPr/>
        </p:nvGrpSpPr>
        <p:grpSpPr>
          <a:xfrm>
            <a:off x="0" y="0"/>
            <a:ext cx="3429000" cy="4343400"/>
            <a:chOff x="0" y="0"/>
            <a:chExt cx="3429000" cy="4343400"/>
          </a:xfrm>
        </p:grpSpPr>
        <p:pic>
          <p:nvPicPr>
            <p:cNvPr id="552" name="" descr=""/>
            <p:cNvPicPr/>
            <p:nvPr/>
          </p:nvPicPr>
          <p:blipFill>
            <a:blip r:embed="rId10"/>
            <a:stretch/>
          </p:blipFill>
          <p:spPr>
            <a:xfrm>
              <a:off x="212760" y="216000"/>
              <a:ext cx="2992320" cy="39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3429000" cy="434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4" name=""/>
          <p:cNvGrpSpPr/>
          <p:nvPr/>
        </p:nvGrpSpPr>
        <p:grpSpPr>
          <a:xfrm>
            <a:off x="0" y="0"/>
            <a:ext cx="2806560" cy="3479760"/>
            <a:chOff x="0" y="0"/>
            <a:chExt cx="2806560" cy="3479760"/>
          </a:xfrm>
        </p:grpSpPr>
        <p:pic>
          <p:nvPicPr>
            <p:cNvPr id="555" name="" descr=""/>
            <p:cNvPicPr/>
            <p:nvPr/>
          </p:nvPicPr>
          <p:blipFill>
            <a:blip r:embed="rId12"/>
            <a:srcRect l="5740" t="4644" r="3872" b="7868"/>
            <a:stretch/>
          </p:blipFill>
          <p:spPr>
            <a:xfrm>
              <a:off x="216000" y="216000"/>
              <a:ext cx="236988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2806560" cy="347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68280" y="371520"/>
            <a:ext cx="12268080" cy="899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